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263-AE45-4CB7-AAE0-3216E839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5B1-7DDC-45F4-B50D-6AF5F76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D97-B6CC-412F-BFA3-215C6050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C28-CC40-4ADA-A1EA-54BE8F84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E6B-9961-4D80-90F1-137D111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804-EA9E-41D3-BE1B-2F9D380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378-A033-4A94-840B-06434E7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3C3-C0CA-459D-A161-0229A1D3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01B-BDAE-40FB-83DA-F042D6AA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DBD-D050-4CB1-AA3A-2FA6851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1EE-5073-44D2-A908-B6A0E88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B62-88EA-440B-AD3B-719B3B3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818-06EB-4648-82CE-FD778B282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609480"/>
            <a:ext cx="2676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ssica Sav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5562720"/>
            <a:ext cx="11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ni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84668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5267400">
            <a:off x="5333400" y="2971800"/>
            <a:ext cx="2914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578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 with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570800">
            <a:off x="2133720" y="1752480"/>
            <a:ext cx="4619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/ Partn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18176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1626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1 ~ Fish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4324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2098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hoice #1 ~ Fish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3243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28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ing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317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06:54Z</dcterms:created>
  <dc:creator>Bal_jmsavage</dc:creator>
  <dc:description/>
  <dc:language>en-US</dc:language>
  <cp:lastModifiedBy>C</cp:lastModifiedBy>
  <dcterms:modified xsi:type="dcterms:W3CDTF">2009-05-22T20:08:17Z</dcterms:modified>
  <cp:revision>6</cp:revision>
  <dc:subject/>
  <dc:title>Slide 1</dc:title>
</cp:coreProperties>
</file>